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725354"/>
        <c:axId val="51468019"/>
      </c:barChart>
      <c:catAx>
        <c:axId val="817253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68019"/>
        <c:crosses val="autoZero"/>
        <c:auto val="1"/>
        <c:lblAlgn val="ctr"/>
        <c:lblOffset val="100"/>
        <c:noMultiLvlLbl val="0"/>
      </c:catAx>
      <c:valAx>
        <c:axId val="514680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253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885E-AF69-4B3B-A2CE-71B20599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2381-2B44-4EBC-BB2C-EF92A92C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06DF-9179-4F2D-B186-6064CFAE5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B39A-FEBD-4059-8B6F-12AC39873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536A-3B3C-4EDC-A1AD-D81CE309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4D6B-7398-49E1-981F-3982B209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B6DF-8BA0-402D-A016-12EE798F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64A2-722F-429F-8191-C8DD5FF8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20F1-1B04-4070-B19D-3500EBAE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C93E-2327-47E4-9051-851E0EBD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A548-27C8-418A-87A9-DB481EAC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8CCF-8D9F-450D-9D8D-22877DC8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FB1BD7-7A15-45A7-BDAB-8995900E81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